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gif" ContentType="image/gif"/>
  <Override PartName="/ppt/media/image5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6E5AC-F79A-472A-A53B-FAF5DEA54AF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C1BB2-018F-40CF-9571-1B1567EC39A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"/>
          <p:cNvSpPr/>
          <p:nvPr/>
        </p:nvSpPr>
        <p:spPr>
          <a:xfrm>
            <a:off x="1003320" y="695160"/>
            <a:ext cx="4848120" cy="342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99C6-A4BF-4965-8574-2E0C3548F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928A-EFD8-43EE-BA69-F1DE838DE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8DB8-8E72-4806-A502-90E04BA9D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AC38-F9B1-42BC-9759-D9DFD66EF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ADC03-3F7F-4701-83F0-29522BBF9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C020C-6831-41F4-BF88-EA93615D1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C99F3-80FB-4CCB-8607-70A364C39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37BB6-2FDC-4820-968F-4F98440F4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E9EAA-8E4D-4FF9-8B9F-CC0481146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5C6DD-81F9-4EED-AF65-0D2FBFA75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169DF-4C9F-4606-A95B-0E515D395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AEC9-295E-47D1-9C2A-C12B1C718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6F3F9-587E-4FB2-AAFA-5DD60E6EB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4D439-E496-4983-B6CD-D4A94B18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76826-C395-42B0-91AC-191697A88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4171B-AD82-4D6A-94A3-FF7232FF2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A2A4E-93A4-48CD-A921-38F29EFCA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584B4-E4B9-401D-8965-2EE3F6637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14DFC-989C-43A7-9EC0-7A91AEC69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DF4E6-44D8-4FA7-B62F-01F6447F4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2B0A5-D81A-4AD9-A645-83151C810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BB2C1-5656-4F72-B6C3-B587402FB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0518-2045-47E4-A2AC-2147DA35E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3B38E-B26E-4A4F-B32D-317178243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737CB-9C69-4DF6-A550-2233E0AC9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F81B2-C993-4C26-B24C-1DAD51F3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A3BD5-72D7-4B02-815B-B2A0BA658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16359-CACF-4AEA-AC29-444C15B04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022BA-1CD4-489B-866A-E8577B42F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A1070-147B-4CCD-80A6-274027F86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F08FF-74C0-4308-9E67-4FDC79407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C1516-735E-4E3B-A028-8B43B88DD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2B72E-71E2-4EEE-BC7D-42665F35E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5D09-5B86-4C53-BD49-F60D41248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B6535-9DAB-4882-84EB-36CA7C2DF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4D3E3-95F4-46DB-A319-3F98CDB14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13E10-9117-4037-9902-1384D327F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A951C-5EC2-4243-BC64-113BDF77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677C0-646D-4E55-9E1B-E536B9FA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66BDB-858D-49B7-9717-7C70A3392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3B4BD-1C5B-4D14-9733-062C18008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DB753-6C4E-4727-A293-CD78419D3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05418-E4AA-42B1-9E17-AFC1C5105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D1BE7D-3569-4781-9F81-735401E36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E791-F15E-4774-B013-F356A5701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D917B-F16F-4178-802B-A47C57182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C4011-8253-4D6B-BCEE-8043FAFF0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6FB78-5D79-4EDF-BBB3-28F40FAC4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56FA3-882B-4576-8724-69D1A950E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86B9FB-8892-4F7A-9AA9-2EE3ECF85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546FAB-F0A3-4317-A4D2-F8B00BE8F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38EBE-4941-4FA5-8657-EDFEDE1A3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93D25-2758-4182-8823-0C74ACF4F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C635C1-FB03-4806-BBC8-306328AE7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8CD412-3E26-41A7-B3D1-65F48F333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4752-0CCA-4AB7-BA2A-B991A54D0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E6A99-841B-4580-92F5-912B743DE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8849-404D-40C5-B036-2EF44594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1E50-FFB1-4D2C-8661-D03561C2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FF63-5277-4DD5-99BF-440BB04B6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09259-F578-442B-A322-67C711EDEA3D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9E350-8CEB-421B-9133-C7F503793052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B0163-EB3C-477B-B028-80BD5C79F7FD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E00F6-3767-42ED-B070-EBAA545410F4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081FF-8820-43B2-A26A-9399457D662B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ifzona.ru/i/1/02.gif" TargetMode="External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5" descr="Картинка 189 из 72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9080" y="631800"/>
            <a:ext cx="723420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1447920" y="228600"/>
            <a:ext cx="5867280" cy="64771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"/>
          <p:cNvPicPr/>
          <p:nvPr/>
        </p:nvPicPr>
        <p:blipFill>
          <a:blip r:embed="rId2"/>
          <a:stretch/>
        </p:blipFill>
        <p:spPr>
          <a:xfrm>
            <a:off x="1371600" y="380880"/>
            <a:ext cx="5867280" cy="647712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1"/>
          <p:cNvSpPr/>
          <p:nvPr/>
        </p:nvSpPr>
        <p:spPr>
          <a:xfrm>
            <a:off x="2286000" y="3060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“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Найти общий язык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4"/>
          <p:cNvSpPr/>
          <p:nvPr/>
        </p:nvSpPr>
        <p:spPr>
          <a:xfrm>
            <a:off x="2071800" y="1530360"/>
            <a:ext cx="7226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d61031"/>
                </a:solidFill>
                <a:latin typeface="Verdana"/>
              </a:rPr>
              <a:t>Интонация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5" descr="62SAhh2Qjs"/>
          <p:cNvPicPr/>
          <p:nvPr/>
        </p:nvPicPr>
        <p:blipFill>
          <a:blip r:embed="rId1"/>
          <a:stretch/>
        </p:blipFill>
        <p:spPr>
          <a:xfrm>
            <a:off x="152280" y="304920"/>
            <a:ext cx="2514600" cy="39621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3b9fba87a9b3"/>
          <p:cNvPicPr/>
          <p:nvPr/>
        </p:nvPicPr>
        <p:blipFill>
          <a:blip r:embed="rId2"/>
          <a:stretch/>
        </p:blipFill>
        <p:spPr>
          <a:xfrm>
            <a:off x="6553080" y="3733920"/>
            <a:ext cx="2438640" cy="28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9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2468520" cy="30956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0" descr=""/>
          <p:cNvPicPr/>
          <p:nvPr/>
        </p:nvPicPr>
        <p:blipFill>
          <a:blip r:embed="rId2"/>
          <a:stretch/>
        </p:blipFill>
        <p:spPr>
          <a:xfrm>
            <a:off x="6372360" y="2492280"/>
            <a:ext cx="2519280" cy="33116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1" descr=""/>
          <p:cNvPicPr/>
          <p:nvPr/>
        </p:nvPicPr>
        <p:blipFill>
          <a:blip r:embed="rId3"/>
          <a:stretch/>
        </p:blipFill>
        <p:spPr>
          <a:xfrm>
            <a:off x="2484360" y="4000680"/>
            <a:ext cx="4172040" cy="2857320"/>
          </a:xfrm>
          <a:prstGeom prst="rect">
            <a:avLst/>
          </a:prstGeom>
          <a:ln w="0">
            <a:noFill/>
          </a:ln>
        </p:spPr>
      </p:pic>
      <p:sp>
        <p:nvSpPr>
          <p:cNvPr id="237" name="Прямоугольник 6"/>
          <p:cNvSpPr/>
          <p:nvPr/>
        </p:nvSpPr>
        <p:spPr>
          <a:xfrm>
            <a:off x="2362320" y="228600"/>
            <a:ext cx="4103640" cy="1739880"/>
          </a:xfrm>
          <a:prstGeom prst="rect">
            <a:avLst/>
          </a:prstGeom>
          <a:solidFill>
            <a:srgbClr val="ffffff"/>
          </a:solidFill>
          <a:ln w="424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Verdana"/>
              </a:rPr>
              <a:t>Ты молодец! – с восхищением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Verdana"/>
              </a:rPr>
              <a:t>с насмешк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7" descr=""/>
          <p:cNvPicPr/>
          <p:nvPr/>
        </p:nvPicPr>
        <p:blipFill>
          <a:blip r:embed="rId4"/>
          <a:stretch/>
        </p:blipFill>
        <p:spPr>
          <a:xfrm>
            <a:off x="3657600" y="2209680"/>
            <a:ext cx="160020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77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" dur="770" fill="hold"/>
                                        <p:tgtEl>
                                          <p:spTgt spid="2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" dur="77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" dur="77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9360" y="0"/>
            <a:ext cx="2276640" cy="31021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3" descr=""/>
          <p:cNvPicPr/>
          <p:nvPr/>
        </p:nvPicPr>
        <p:blipFill>
          <a:blip r:embed="rId2"/>
          <a:stretch/>
        </p:blipFill>
        <p:spPr>
          <a:xfrm>
            <a:off x="163440" y="4408560"/>
            <a:ext cx="2836800" cy="22780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"/>
          <p:cNvPicPr/>
          <p:nvPr/>
        </p:nvPicPr>
        <p:blipFill>
          <a:blip r:embed="rId3"/>
          <a:stretch/>
        </p:blipFill>
        <p:spPr>
          <a:xfrm>
            <a:off x="5878440" y="3352680"/>
            <a:ext cx="3265560" cy="35053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5" descr=""/>
          <p:cNvPicPr/>
          <p:nvPr/>
        </p:nvPicPr>
        <p:blipFill>
          <a:blip r:embed="rId4"/>
          <a:stretch/>
        </p:blipFill>
        <p:spPr>
          <a:xfrm>
            <a:off x="6858000" y="144360"/>
            <a:ext cx="1917720" cy="2305080"/>
          </a:xfrm>
          <a:prstGeom prst="rect">
            <a:avLst/>
          </a:prstGeom>
          <a:ln w="0">
            <a:noFill/>
          </a:ln>
        </p:spPr>
      </p:pic>
      <p:sp>
        <p:nvSpPr>
          <p:cNvPr id="243" name="Прямоугольник 6"/>
          <p:cNvSpPr/>
          <p:nvPr/>
        </p:nvSpPr>
        <p:spPr>
          <a:xfrm>
            <a:off x="2438280" y="990720"/>
            <a:ext cx="4267440" cy="2288520"/>
          </a:xfrm>
          <a:prstGeom prst="rect">
            <a:avLst/>
          </a:prstGeom>
          <a:solidFill>
            <a:srgbClr val="ffffff"/>
          </a:solidFill>
          <a:ln w="424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Verdana"/>
              </a:rPr>
              <a:t>Я очень рад за тебя! – с одобрением, с огорчени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643280" y="3071880"/>
            <a:ext cx="4057920" cy="17524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Verdana"/>
              </a:rPr>
              <a:t>Иванина Валентина Викторовна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63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Verdana"/>
              </a:rPr>
              <a:t>учитель начальных классов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63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Verdana"/>
              </a:rPr>
              <a:t>МОУ «СОШ №25»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63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Verdana"/>
              </a:rPr>
              <a:t>г.Балаково Саратовской области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Рисунок 3" descr="Поворот Image-19.jpg"/>
          <p:cNvPicPr/>
          <p:nvPr/>
        </p:nvPicPr>
        <p:blipFill>
          <a:blip r:embed="rId1"/>
          <a:stretch/>
        </p:blipFill>
        <p:spPr>
          <a:xfrm>
            <a:off x="533520" y="685800"/>
            <a:ext cx="2977920" cy="4443480"/>
          </a:xfrm>
          <a:prstGeom prst="rect">
            <a:avLst/>
          </a:prstGeom>
          <a:ln w="0">
            <a:noFill/>
          </a:ln>
        </p:spPr>
      </p:pic>
      <p:pic>
        <p:nvPicPr>
          <p:cNvPr id="246" name="Содержимое 3" descr="Image-06.jpg"/>
          <p:cNvPicPr/>
          <p:nvPr/>
        </p:nvPicPr>
        <p:blipFill>
          <a:blip r:embed="rId2"/>
          <a:stretch/>
        </p:blipFill>
        <p:spPr>
          <a:xfrm>
            <a:off x="4876920" y="2057400"/>
            <a:ext cx="2971800" cy="4073400"/>
          </a:xfrm>
          <a:prstGeom prst="rect">
            <a:avLst/>
          </a:prstGeom>
          <a:ln w="0">
            <a:noFill/>
          </a:ln>
        </p:spPr>
      </p:pic>
      <p:sp>
        <p:nvSpPr>
          <p:cNvPr id="247" name="Прямоугольник 5"/>
          <p:cNvSpPr/>
          <p:nvPr/>
        </p:nvSpPr>
        <p:spPr>
          <a:xfrm>
            <a:off x="3809880" y="0"/>
            <a:ext cx="5334120" cy="1922400"/>
          </a:xfrm>
          <a:prstGeom prst="rect">
            <a:avLst/>
          </a:prstGeom>
          <a:solidFill>
            <a:srgbClr val="ffffff"/>
          </a:solidFill>
          <a:ln w="424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Спасибо тебе! – с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благодарностью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с обид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9" name="Picture 2" descr="C:\Мои документы\Corel User Files\TMP\Untitled-21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Рисунок 1" descr="fd98fbad42d4.png"/>
          <p:cNvPicPr/>
          <p:nvPr/>
        </p:nvPicPr>
        <p:blipFill>
          <a:blip r:embed="rId1"/>
          <a:stretch/>
        </p:blipFill>
        <p:spPr>
          <a:xfrm>
            <a:off x="1905120" y="1371600"/>
            <a:ext cx="4690800" cy="4691160"/>
          </a:xfrm>
          <a:prstGeom prst="rect">
            <a:avLst/>
          </a:prstGeom>
          <a:ln w="0">
            <a:noFill/>
          </a:ln>
        </p:spPr>
      </p:pic>
      <p:grpSp>
        <p:nvGrpSpPr>
          <p:cNvPr id="251" name="Табличка 2"/>
          <p:cNvGrpSpPr/>
          <p:nvPr/>
        </p:nvGrpSpPr>
        <p:grpSpPr>
          <a:xfrm>
            <a:off x="328680" y="225360"/>
            <a:ext cx="3451320" cy="1305000"/>
            <a:chOff x="328680" y="225360"/>
            <a:chExt cx="3451320" cy="1305000"/>
          </a:xfrm>
        </p:grpSpPr>
        <p:pic>
          <p:nvPicPr>
            <p:cNvPr id="252" name="Табличка 2" descr=""/>
            <p:cNvPicPr/>
            <p:nvPr/>
          </p:nvPicPr>
          <p:blipFill>
            <a:blip r:embed="rId2"/>
            <a:stretch/>
          </p:blipFill>
          <p:spPr>
            <a:xfrm>
              <a:off x="328680" y="225360"/>
              <a:ext cx="3451320" cy="13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576360" y="500040"/>
              <a:ext cx="296208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c00000"/>
                  </a:solidFill>
                  <a:latin typeface="Verdana"/>
                </a:rPr>
                <a:t>И во Франции, и в Дани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c00000"/>
                  </a:solidFill>
                  <a:latin typeface="Verdana"/>
                </a:rPr>
                <a:t>На прощанье говорят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4" name="TextBox 4" descr=""/>
          <p:cNvPicPr/>
          <p:nvPr/>
        </p:nvPicPr>
        <p:blipFill>
          <a:blip r:embed="rId3"/>
          <a:stretch/>
        </p:blipFill>
        <p:spPr>
          <a:xfrm>
            <a:off x="4737240" y="573120"/>
            <a:ext cx="3668400" cy="853920"/>
          </a:xfrm>
          <a:prstGeom prst="rect">
            <a:avLst/>
          </a:prstGeom>
          <a:ln w="0">
            <a:noFill/>
          </a:ln>
        </p:spPr>
      </p:pic>
      <p:sp>
        <p:nvSpPr>
          <p:cNvPr id="255" name="TextBox 5"/>
          <p:cNvSpPr/>
          <p:nvPr/>
        </p:nvSpPr>
        <p:spPr>
          <a:xfrm>
            <a:off x="1342800" y="6172200"/>
            <a:ext cx="645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айт  «Школа АБВ»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shkola-abv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3T19:22:31Z</dcterms:created>
  <dc:creator>Наташа</dc:creator>
  <dc:description/>
  <dc:language>en-US</dc:language>
  <cp:lastModifiedBy>Борис</cp:lastModifiedBy>
  <dcterms:modified xsi:type="dcterms:W3CDTF">2014-03-30T05:32:19Z</dcterms:modified>
  <cp:revision>8</cp:revision>
  <dc:subject/>
  <dc:title>Слайд 1</dc:title>
</cp:coreProperties>
</file>